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D94D-8582-4B1F-AC10-9F43C4C5488F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oussainvill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659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 31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familles ont au moins 4 enfants de moins de 25 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ès de 35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: plus de 19% pour les femmes, celui des hommes :1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 967 € et 27 7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% de la population; 36,5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 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’impulser une dynamiqu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de ses quartiers en Contrat Urbain de Cohésion Sociale (C.U.C.S.) avec un volet santé et Projet de Réussite Edu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 pour identifier les problématiques prior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6,5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et d’implantation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8807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oussainvill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éalisation d’un diagnostic territorial de santé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(subvention ARS : 25 000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dentification des problématiques et définition des axes stratégiques d’action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Mise en place d’un Atelier Santé Vi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ormalisation des collaborations entre commune et D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ction d’accompagnement des personnes habitant des logements reconnus insalu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3T16:42:44Z</dcterms:modified>
  <cp:revision>21</cp:revision>
  <dc:subject/>
  <dc:title>ESSA</dc:title>
</cp:coreProperties>
</file>